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D64-7E90-4348-B442-8C06DBD3B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46B7-DF3F-4915-B593-D299C7A2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CC0A-2723-4D49-99C2-D8DEF187F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EC0F-744C-40D2-B5CF-E806B1601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2AB-C31A-4A56-BDF6-E6715264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AC3B-729C-4750-AE18-CA05FC2E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BFDD-37AB-4183-A1C6-6F6C052D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EB11-D0F2-4DAA-B40B-1F619EE69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CFF4-49CA-4368-9E7E-26ACC93ED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BBE-0303-4DD5-B7E2-87343B16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577C-900A-4E1F-A050-49B02650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5AD-9EA6-4BA0-89CF-87A4D1CEA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5ABC-492B-42F2-870B-41D90C91D7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06520" y="4513320"/>
            <a:ext cx="8704080" cy="1933560"/>
          </a:xfrm>
          <a:prstGeom prst="rect">
            <a:avLst/>
          </a:prstGeom>
          <a:ln w="0">
            <a:noFill/>
          </a:ln>
        </p:spPr>
      </p:pic>
      <p:sp>
        <p:nvSpPr>
          <p:cNvPr id="43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1785960" y="6000840"/>
            <a:ext cx="557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.Гагарин и С.П. Королев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116000" y="333360"/>
            <a:ext cx="6642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5508720" y="1916280"/>
            <a:ext cx="30970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вая женщина-космонавт  Валентина Тереш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332000" y="620640"/>
            <a:ext cx="6426000" cy="4280040"/>
          </a:xfrm>
          <a:prstGeom prst="rect">
            <a:avLst/>
          </a:prstGeom>
          <a:ln w="0">
            <a:noFill/>
          </a:ln>
        </p:spPr>
      </p:pic>
      <p:sp>
        <p:nvSpPr>
          <p:cNvPr id="65" name="TextBox 2"/>
          <p:cNvSpPr/>
          <p:nvPr/>
        </p:nvSpPr>
        <p:spPr>
          <a:xfrm>
            <a:off x="1428840" y="5500800"/>
            <a:ext cx="61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Ю.Гагарин и В. Терешков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2"/>
          <p:cNvSpPr/>
          <p:nvPr/>
        </p:nvSpPr>
        <p:spPr>
          <a:xfrm>
            <a:off x="323640" y="428760"/>
            <a:ext cx="835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вая женщина, вышедшая в открытый  косм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Светлана Савицк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42920" y="1413000"/>
            <a:ext cx="706140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4343400" cy="5359320"/>
          </a:xfrm>
          <a:prstGeom prst="rect">
            <a:avLst/>
          </a:prstGeom>
          <a:ln w="0">
            <a:noFill/>
          </a:ln>
        </p:spPr>
      </p:pic>
      <p:sp>
        <p:nvSpPr>
          <p:cNvPr id="46" name="TextBox 6"/>
          <p:cNvSpPr/>
          <p:nvPr/>
        </p:nvSpPr>
        <p:spPr>
          <a:xfrm>
            <a:off x="4857840" y="642960"/>
            <a:ext cx="3857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ГАГАРИН, ЮРИЙ АЛЕКСЕЕВИЧ (1934–1968), советский летчик-космонавт, первый человек, совершивший орбитальный космический поле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72000" cy="4647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219640" y="1844640"/>
            <a:ext cx="3673440" cy="29336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5216400" y="5229360"/>
            <a:ext cx="364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Ю. Гагарин и его родите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2858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9 марта 1934 г. в селе Клушино ( Смоленская область) родился Ю.А. Гагар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4076640" cy="3441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3429000" cy="3784680"/>
          </a:xfrm>
          <a:prstGeom prst="rect">
            <a:avLst/>
          </a:prstGeom>
          <a:ln w="0">
            <a:noFill/>
          </a:ln>
        </p:spPr>
      </p:pic>
      <p:sp>
        <p:nvSpPr>
          <p:cNvPr id="53" name="TextBox 3"/>
          <p:cNvSpPr/>
          <p:nvPr/>
        </p:nvSpPr>
        <p:spPr>
          <a:xfrm>
            <a:off x="285840" y="4572000"/>
            <a:ext cx="414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Саратовский индустриальный техн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5"/>
          <p:cNvSpPr/>
          <p:nvPr/>
        </p:nvSpPr>
        <p:spPr>
          <a:xfrm>
            <a:off x="5219640" y="90792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агарин - курсант  Саратовского аэроклу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684360" y="1557360"/>
            <a:ext cx="7858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 апреля 1961 Ю.А.Гагарин на космическом корабле «Восток», созданном в опытно-конструкторском бюро С.П.Королева, стартовал с космодрома Байконур и совершил первый космический полет, облетев земной шар за 108 минут и благополучно вернувшись на Земл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72320" cy="5791320"/>
          </a:xfrm>
          <a:prstGeom prst="rect">
            <a:avLst/>
          </a:prstGeom>
          <a:ln w="0">
            <a:noFill/>
          </a:ln>
        </p:spPr>
      </p:pic>
      <p:sp>
        <p:nvSpPr>
          <p:cNvPr id="59" name="TextBox 3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о приземления  Ю.А. Гагар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14:40:37Z</dcterms:created>
  <dc:creator>HardyWf</dc:creator>
  <dc:description/>
  <dc:language>en-US</dc:language>
  <cp:lastModifiedBy>Name</cp:lastModifiedBy>
  <dcterms:modified xsi:type="dcterms:W3CDTF">2010-09-23T12:06:21Z</dcterms:modified>
  <cp:revision>3</cp:revision>
  <dc:subject/>
  <dc:title>Первые космонав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6000000000001024140</vt:lpwstr>
  </property>
</Properties>
</file>